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B18-0023-48EC-AD5D-EE0EC294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0274-BE8E-4CB8-8AC2-6C7CF371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FEFE-6761-4670-A364-684FA8A5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1AB2-99A9-4FCC-9E48-3AB35AEA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2AAA-B63B-4EB0-855C-3FC470C1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A98C-5CC3-42D1-B444-AFCCF66F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9295-BB47-4EA1-A9D0-FC815525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B988-C8C6-4D05-8C17-B422086E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EBBD-17F6-4AA9-B5B4-40B219BE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A8C3-8A3A-4985-8FFB-EACCF1B6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121F-4FA7-4393-86E8-AE793665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BF5-BB82-443F-8C58-E84D7328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876A-E377-4070-B69E-AF2D8D27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092A-A11C-4CE1-B79A-120188B7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AF7F-4AD6-4166-B33F-DD8BF474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2BDA-FF62-454D-925A-3940406E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0A3E-AD74-4BBB-98A9-DE3CEF7A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DB8-0E1C-47B1-BB9A-453EF69D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6B60-3F41-4073-B049-C1FD358B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233-E7B9-4C1F-B9AB-D511E4C9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36C-AAF8-45D1-B384-CED8F22A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3395-A5DE-42C0-A3C8-EE8B520D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1C0-A20A-4412-83F7-6D6ACCA8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98F3-84CB-444E-915D-BB1E1450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7BB1-D9CA-46CC-B034-656FEB9DE5A2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2DDD-7E8C-48D8-8BA4-18BFAC7D42E3}" type="slidenum"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082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’analisi delle reti soci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A5BE-8FFC-4A1E-A0F6-4006993FDD67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271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Come ci giudicano gli altri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889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Il </a:t>
            </a:r>
            <a:r>
              <a:rPr b="0" i="1" lang="it-IT" sz="2600" spc="-1" strike="noStrike">
                <a:solidFill>
                  <a:srgbClr val="545472"/>
                </a:solidFill>
                <a:latin typeface="Tahoma"/>
              </a:rPr>
              <a:t>test di percezione</a:t>
            </a: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 costituisce un ulteriore raffinamento dell’approccio sociometrico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A ciascun partecipante viene chiesto di indicare le persone che, secondo lui, lo hanno scelto o rifiutato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Questa possibilità collega la sociometria ad un idea centrale (sviluppata da Cooley, Mead e l’interazionismo simbilico) nella tradizione della psicologia sociale: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noi formiamo la nostra identità guardandoci 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nello “specchio” delle opinioni che gli altri 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hanno di noi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071A-A392-4E6E-90DC-BB6D5D58C0CC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Dalla Sociometria alla </a:t>
            </a:r>
            <a:r>
              <a:rPr b="0" i="1" lang="it-IT" sz="4000" spc="-1" strike="noStrike">
                <a:solidFill>
                  <a:srgbClr val="660066"/>
                </a:solidFill>
                <a:latin typeface="Tahoma"/>
              </a:rPr>
              <a:t>Social Network 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Analys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280" y="1909440"/>
            <a:ext cx="89647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vvero … dall’attrazione / repulsione ai flussi di comunicazion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on si indagano più gruppi chiusi, ma maglie aperte di relazioni interpersonali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on si studiano più le strutture delle simpatie, ma il sistema dei contatti; perde senso la valutazione della reciprocità della designazion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B208-9897-4458-86F6-80EED65957BE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Dalla Sociometria alla </a:t>
            </a:r>
            <a:r>
              <a:rPr b="0" i="1" lang="it-IT" sz="4000" spc="-1" strike="noStrike">
                <a:solidFill>
                  <a:srgbClr val="660066"/>
                </a:solidFill>
                <a:latin typeface="Tahoma"/>
              </a:rPr>
              <a:t>Social Network 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Analys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280" y="1909440"/>
            <a:ext cx="89647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Perde significato il concetto di struttura a vantaggio di quello di ret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La rete non esiste di per sé, ma in relazione a un determinato flusso di comunicazione (che può veicolare contenuti diversi)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Quindi all’interno di un gruppo possono esistere più reti; una rete può attraversare un gruppo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4070-FDB1-4111-8023-36822893B28A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6472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Problema metodologico: i confini delle re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6160" y="1906560"/>
            <a:ext cx="88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In fase di progettazione, il ricercatore deve stabilire i confini della rete che studia. Quando questi non sono stabiliti dal committente o da caratteristiche strutturali, il ricercatore ha 2 possibilità: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675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tentare delle definizioni da sottoporre a controllo empirico;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675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ricostruire i confini in base alle percezioni di chi fa parte della rete che sta studiando.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82DE-EC6E-4601-94E4-F7EE353EF1FA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964720" cy="69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Problema metodologico: il campioname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6160" y="1268280"/>
            <a:ext cx="88185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Quando intende studiare reti molto estese, il ricercatore potrebbe aver bisogno di operare un campionament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 logica campionaria tradizionale è stata pensata per selezionare individui e non reti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 tecnica di campionamento più adatta alla rilevazione delle reti è lo 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snow-ball sampling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n questo caso, la scelta dei punti di campionamento iniziale dipende dalla densità della rete, piuttosto che semplicemente dalla sua dimension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7B87-26C1-420F-9264-907379B184AE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560" y="333000"/>
            <a:ext cx="88218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660066"/>
                </a:solidFill>
                <a:latin typeface="Tahoma"/>
              </a:rPr>
              <a:t>Network analysis e teoria sociologica: il concetto di capitale sociale</a:t>
            </a:r>
            <a:endParaRPr b="0" lang="en-US" sz="3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Per </a:t>
            </a:r>
            <a:r>
              <a:rPr b="1" lang="it-IT" sz="2400" spc="-1" strike="noStrike">
                <a:solidFill>
                  <a:srgbClr val="545472"/>
                </a:solidFill>
                <a:latin typeface="Tahoma"/>
              </a:rPr>
              <a:t>capitale sociale</a:t>
            </a: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 si intende: l’insieme degli aspetti della struttura sociale che aiutano le persone ad agire collettivamente migliorando il benessere sociale, la crescita e lo sviluppo. Si tratta di un concetto multi-dimensionale e dinamico, che comprende le reti di relazioni interpersonali, le norme sociali e le istituzioni formali e informali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Al di là delle importanti differenze che caratterizzano i diversi approcci al capitale sociale, questo concetto costituisce – potenzialmente – una rivoluzione copernicana in sociologia: esso infatti sposta l’attenzione dei ricercatori (e quindi anche il loro modo di fare indagine) dagli attributi individuali a quelli delle relazioni in cui gli individui sono immersi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EE8C-D8E4-4E60-9F80-9BB24E8E764C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836280"/>
            <a:ext cx="89647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660066"/>
                </a:solidFill>
                <a:latin typeface="Tahoma"/>
              </a:rPr>
              <a:t>Sociometria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2131560"/>
            <a:ext cx="89596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45472"/>
                </a:solidFill>
                <a:latin typeface="Tahoma"/>
              </a:rPr>
              <a:t>Nel 1925 Jacob Moreno presenta al mondo la Sociometria: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45472"/>
                </a:solidFill>
                <a:latin typeface="Tahoma"/>
              </a:rPr>
              <a:t>Repertorio di tecniche di ricerca quantitativa che rilevano e studiano i processi di attrazione e comunicazione che si sviluppano nei gruppi piccoli.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AC4F-FC78-4A00-B322-FB74C3AF3E37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26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Tra ricerca e terap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ella visione di Moreno, la sociometria era più di una tecnica di ricerca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ltre a rilevare lo stato delle relazioni interpersonali all’interno di un gruppo, una ricerca sociometrica dovrebbe anche mobilitare, coinvolgere, rendere i membri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consapevol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del e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interessat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al proprio gruppo. In questo senso, era un vero e proprio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trattamento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B724-D36E-4AFF-BF05-FFA39DEEE221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266760"/>
            <a:ext cx="896472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Il “raffreddamento” della Sociomet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8920" y="1546200"/>
            <a:ext cx="88203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Ben presto (fine anni ’30) la sociometria perde la sua missione terapeutica, trasformandosi in una affermata tecnica di rilevazione particolarmente usata dagli psicologi.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Il suo obiettivo è soprattutto rilevare l’</a:t>
            </a:r>
            <a:r>
              <a:rPr b="0" i="1" lang="it-IT" sz="3000" spc="-1" strike="noStrike">
                <a:solidFill>
                  <a:srgbClr val="545472"/>
                </a:solidFill>
                <a:latin typeface="Tahoma"/>
              </a:rPr>
              <a:t>attrazione interpersonale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, cioè il processo di scelta che sta alla base delle strutture di relazione e comunicazione dei piccoli gruppi.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58F7-84D2-462F-8FCF-C514B2AFEF92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l test sociometr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Sostanzialmente si basa su due domande: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Con chi vai più d’accordo tra i membri del gruppo?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Con chi non vai d’accordo tra i membri del gruppo?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A partire da questo nucleo centrale sono stati sviluppati diversi affinamenti, ognuno dei quali si basa su un diverso criterio di attrazione (con chi lavori meglio, a chi affideresti un progetto, con chi andresti a fare una vacanza, a chi affideresti tuo figlio, etc.)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C3C3-2390-42A1-BE63-9CD563D2B714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9440" y="698040"/>
            <a:ext cx="82789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parare un test socimetr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835280"/>
            <a:ext cx="89978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Quando si realizza un test sociometrico, a ciascun partecipante viene chiesto di designare un numero prefissato di scelte e di repulsioni. Affinché i dati ottenuti con un test sociometrico siano validi, il ricercatore deve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hiarire il senso di concetti come “accordo”, “preferenza”, etc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onvincere i partecipanti a svolgere lo scomodo compito di indicare simpatici e antipatici 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7047-A4F3-4B3B-A345-0845A2557B84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La matrice sociometric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250920" y="946080"/>
          <a:ext cx="8713800" cy="557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46080"/>
                    <a:ext cx="871380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C503-F289-4DEA-9C87-D4995BFAACA9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5404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a matrice sociometrica per studiare individui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1080" y="1474560"/>
            <a:ext cx="827856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 partecipanti a un test sociometrico possono essere classificati in base 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status sociometric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bilancio delle scelte e dei rifiuti ricevuti)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la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centralità sociometrica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bilancio delle scelte e dei rifiuti reciproci)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grado di isolament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numero di designazioni ricevute, indipendentemente dal fatto che si tratti di scelte o rifiuti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F6DA-E987-4302-9046-99C4F97F3E5D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6472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a matrice sociometrica per studiare i sotto-gruppi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1080" y="1690200"/>
            <a:ext cx="8712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Oltre alle domande per fare le designazioni, il ricercatore può includere in un test sociometrico altre domande classiche da questionario (età, sesso, stato civile, ruolo nell’organizzazione, etc.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Successivamente, i partecipanti al test sociometrico possono essere divisi in sottogruppi per analizzare il grado di apertura (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in-group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/ 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out-group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) di ciascun sottogrupp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21:40:13Z</dcterms:created>
  <dc:creator>Gabriella</dc:creator>
  <dc:description/>
  <dc:language>en-US</dc:language>
  <cp:lastModifiedBy>vitali</cp:lastModifiedBy>
  <dcterms:modified xsi:type="dcterms:W3CDTF">2008-08-26T12:48:22Z</dcterms:modified>
  <cp:revision>96</cp:revision>
  <dc:subject/>
  <dc:title>Esercitazione 16 novembre 2004</dc:title>
</cp:coreProperties>
</file>