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AA1B-6559-4B8C-8971-FB6569664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FB35-9305-49B0-8156-7292A324F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F05-04CB-47F8-9FEC-A4662B80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5908-DE4D-4600-952A-F998C63BF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BA00-F89F-4CD1-9457-7F6183F09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5E882-8EFE-4D7C-A8E1-A7D440F2A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295E-F0F6-4382-9A1D-2936FB970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9EE3-3E9F-430A-B65F-D27119FBF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7EFB-E42F-4C2F-BC75-60F16F905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C6F24-96B4-4D8E-96AE-21EFC8945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C5A7-92D3-4FC6-B0F9-D9F95FC7D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6092-440F-4AAE-9C8D-A6535DA27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0406-811C-418B-980C-9B264CE8E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3BABD-132A-4ACA-80E2-6BDA3911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196E-0076-4FE9-A93C-34CE38EA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90A3C-81DF-4B1E-BC08-77F55261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4B59F-EBEA-4249-8310-7FD55A4E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0578-CE6E-4C86-932A-9B9908CB7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0ABD-8292-4BB1-AB37-C7E13E0C4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FB39-8BAE-4904-9D6C-9B7EA9630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F7AD-9139-447D-8E81-7040339DA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9897-647E-45ED-ABB0-E9B8991A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DB3-298F-4BAD-ADBA-5F16B37D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8423-36F0-4478-8EBB-80E8948E1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F0092-A241-49ED-B270-C7391196295A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CE65-1A82-40C0-8941-3C44F73ED4D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itoraggio e valutazione dei servizi formativ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modello CIPP per la valutazione adottato dall’INVAL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984400" y="5661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ugia, 9 – 11 sett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put o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o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ntes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’ il contesto economico e socio-culturale nel quale la scuola si trova ad operare e con il quale si deve confrontare per adeguare la sua offerta formativa alla domanda – espressa o meno – del territorio, anche nella poss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put o risor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no le norme, le leggi, le risorse umane, strutturali, tecnologiche e finanziarie di cui la scuola deve tener conto nella prestazione del serv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cess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 tutte le attività realizzate dalla scuola in ambito organizzativo, didattico, f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dott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ll’ambito della valutazione è l’output fisico della scuola. Si può distinguere tra indicatori di output in senso stretto (es. numero di licenziati sul numero degli iscritti all’ultimo anno) e indicatori di profitto e di risultato (giudizi in uscita rispetto ai giudizi in entr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Output ed outco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pesso l’output viene confuso con la misurazione degli apprendimenti, mentre questa viene indicata come outcome del serviz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0:14:00Z</dcterms:created>
  <dc:creator>Alessandro Chiozza</dc:creator>
  <dc:description/>
  <dc:language>en-US</dc:language>
  <cp:lastModifiedBy>Administrator</cp:lastModifiedBy>
  <dcterms:modified xsi:type="dcterms:W3CDTF">2008-09-09T13:58:02Z</dcterms:modified>
  <cp:revision>4</cp:revision>
  <dc:subject/>
  <dc:title>Monitoraggio e valutazione dei servizi formativi</dc:title>
</cp:coreProperties>
</file>