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6C84-8F44-487A-A560-494C00D13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51E7-4523-49E6-8767-79A94E40F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0038-7E89-489F-A761-EF4F61DF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7EA-A3F0-49D0-BBA8-45BDB1E88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0012-3D7D-4158-878A-1E55A89B7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440FE-7612-4757-B99F-CDF8F9E6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4FB77-605A-4DDA-850D-F3D4E02C4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199F2-92C8-48E4-8EBA-DF137BFB1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B129-AC87-4861-BF4B-F37AEBEC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52D49-2BFE-4585-8801-E2950B6A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219C-A001-4F03-A134-B39CFBFF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D6A-E7BC-4A20-B321-308965C1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46B3-EF46-4D59-A300-7B971AFC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BA680-4686-4DAF-985D-0F1BF07E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FFC0-2867-450E-9E39-24428999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622D6-D326-4A52-ABB3-E521B0E1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5AD12-DC3B-49FA-BFA9-CCCBE403A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58ED-098E-4A48-B1A4-29699B9C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2CD5C-060A-4507-BD3A-63D1360EF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73C7-64E8-4AE2-AC00-F72F5965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6218-BABB-4E2B-8B01-DB1128576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2D9E-4496-4DDD-A629-CFD69283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CB71-52F0-42DE-8032-56577686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4AF3-0476-406B-89CC-01E402AF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80E4-4B52-43A1-BFA0-717D6F9277BC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97F6-6FF2-4A55-9934-1060F8A8030C}" type="slidenum"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analisi delle reti soc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D23BE-E642-4E12-938E-BBC7D0117EA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Come ci giudicano gli altri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i="1" lang="it-IT" sz="2600" spc="-1" strike="noStrike">
                <a:solidFill>
                  <a:srgbClr val="545472"/>
                </a:solidFill>
                <a:latin typeface="Tahoma"/>
              </a:rPr>
              <a:t>test di percezione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 costituisce un ulteriore raffinamento dell’approccio sociometr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ciascun partecipante viene chiesto di indicare le persone che, secondo lui, lo hanno scelto o rifiutat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Questa possibilità collega la sociometria ad un idea centrale (sviluppata da Cooley, Mead e l’interazionismo simbilico) nella tradizione della psicologia soc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oi formiamo la nostra identità guardandoc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ello “specchio” delle opinioni che gli altr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hanno di noi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4DBC-598D-4E1E-A050-158816F6ACD5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vvero … dall’attrazione / repulsione ai flussi di comunic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indagano più gruppi chiusi, ma maglie aperte di relazioni interpersonali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studiano più le strutture delle simpatie, ma il sistema dei contatti; perde senso la valutazione della reciprocità della design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3A8A-5600-48E0-B45E-0AFC40CC6D1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erde significato il concetto di struttura a vantaggio di quello di re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a rete non esiste di per sé, ma in relazione a un determinato flusso di comunicazione (che può veicolare contenuti diversi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indi all’interno di un gruppo possono esistere più reti; una rete può attraversare un grup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CF837-F3BE-4901-9FCF-8E5D54DF2CC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blema metodologico: i confini delle r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160" y="190656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In fase di progettazione, il ricercatore deve stabilire i confini della rete che studia. Quando questi non sono stabiliti dal committente o da caratteristiche strutturali, il ricercatore ha 2 possibilità: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tentare delle definizioni da sottoporre a controllo empirico;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ricostruire i confini in base alle percezioni di chi fa parte della rete che sta studiando.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41FAB-3703-43A3-9E27-ECF334705B3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6472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blema metodologico: il campiona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6160" y="1268280"/>
            <a:ext cx="8818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intende studiare reti molto estese, il ricercatore potrebbe aver bisogno di operare un campiona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logica campionaria tradizionale è stata pensata per selezionare individui e non ret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tecnica di campionamento più adatta alla rilevazione delle reti è lo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snow-ball sampling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 questo caso, la scelta dei punti di campionamento iniziale dipende dalla densità della rete, piuttosto che semplicemente dalla sua dimension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232EC-A073-4B53-950A-DAA024BD1D7D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8821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660066"/>
                </a:solidFill>
                <a:latin typeface="Tahoma"/>
              </a:rPr>
              <a:t>Network analysis e teoria sociologica: il concetto di capitale sociale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Per </a:t>
            </a:r>
            <a:r>
              <a:rPr b="1" lang="it-IT" sz="2400" spc="-1" strike="noStrike">
                <a:solidFill>
                  <a:srgbClr val="545472"/>
                </a:solidFill>
                <a:latin typeface="Tahoma"/>
              </a:rPr>
              <a:t>capitale sociale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si intende: l’insieme degli aspetti della struttura sociale che aiutano le persone ad agire collettivamente migliorando il benessere sociale, la crescita e lo sviluppo. Si tratta di un concetto multi-dimensionale e dinamico, che comprende le reti di relazioni interpersonali, le norme sociali e le istituzioni formali e informal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l di là delle importanti differenze che caratterizzano i diversi approcci al capitale sociale, questo concetto costituisce – potenzialmente – una rivoluzione copernicana in sociologia: esso infatti sposta l’attenzione dei ricercatori (e quindi anche il loro modo di fare indagine) dagli attributi individuali a quelli delle relazioni in cui gli individui sono immers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61C03-2F6B-4F30-8772-1F3B11F16564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660066"/>
                </a:solidFill>
                <a:latin typeface="Tahoma"/>
              </a:rPr>
              <a:t>Sociometria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2131560"/>
            <a:ext cx="89596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Nel 1925 Jacob Moreno presenta al mondo la Sociometria: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Repertorio di tecniche di ricerca quantitativa che rilevano e studiano i processi di attrazione e comunicazione che si sviluppano nei gruppi piccoli.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214A-72D6-4B18-880D-C7305D4D3EE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ra ricerca e terap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ella visione di Moreno, la sociometria era più di una tecnica di ricer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ltre a rilevare lo stato delle relazioni interpersonali all’interno di un gruppo, una ricerca sociometrica dovrebbe anche mobilitare, coinvolgere, rendere i membri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consapevol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 e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interessat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 proprio gruppo. In questo senso, era un vero e proprio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trattament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01AAA-C3F9-45FA-942B-233C5AC3998A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896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Il “raffreddamento” della Sociomet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546200"/>
            <a:ext cx="88203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Ben presto (fine anni ’30) la sociometria perde la sua missione terapeutica, trasformandosi in una affermata tecnica di rilevazione particolarmente usata dagli psicolog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Il suo obiettivo è soprattutto rilevare l’</a:t>
            </a:r>
            <a:r>
              <a:rPr b="0" i="1" lang="it-IT" sz="3000" spc="-1" strike="noStrike">
                <a:solidFill>
                  <a:srgbClr val="545472"/>
                </a:solidFill>
                <a:latin typeface="Tahoma"/>
              </a:rPr>
              <a:t>attrazione interpersonale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, cioè il processo di scelta che sta alla base delle strutture di relazione e comunicazione dei piccoli grupp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C08B8-D125-44FF-921D-FA0E67DAE9A0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test socio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Sostanzialmente si basa su due domande: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vai più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non vai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partire da questo nucleo centrale sono stati sviluppati diversi affinamenti, ognuno dei quali si basa su un diverso criterio di attrazione (con chi lavori meglio, a chi affideresti un progetto, con chi andresti a fare una vacanza, a chi affideresti tuo figlio, etc.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4407-0B39-43D8-A487-39B3D05961D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698040"/>
            <a:ext cx="827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parare un test soci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8997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si realizza un test sociometrico, a ciascun partecipante viene chiesto di designare un numero prefissato di scelte e di repulsioni. Affinché i dati ottenuti con un test sociometrico siano validi, il ricercatore dev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rire il senso di concetti come “accordo”, “preferenza”, et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vincere i partecipanti a svolgere lo scomodo compito di indicare simpatici e antipatici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7F4F9-3D45-4CD6-9F4D-1643564B1734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matrice sociometric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946080"/>
          <a:ext cx="871380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46080"/>
                    <a:ext cx="87138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80B7-CB4D-4B93-881C-6EB1D7EE5195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ndividu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1080" y="1474560"/>
            <a:ext cx="82785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partecipanti a un test sociometrico possono essere classificati in base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status sociometr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icevut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a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entralità sociometric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eciproc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ado di isol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numero di designazioni ricevute, indipendentemente dal fatto che si tratti di scelte o rifiuti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75E81-AED1-4BFB-9F45-BBA29AEC9A9C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 sotto-grupp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1080" y="1690200"/>
            <a:ext cx="8712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ltre alle domande per fare le designazioni, il ricercatore può includere in un test sociometrico altre domande classiche da questionario (età, sesso, stato civile, ruolo nell’organizzazione,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uccessivamente, i partecipanti al test sociometrico possono essere divisi in sottogruppi per analizzare il grado di apertura (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in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/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out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) di ciascun sottogrupp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1:40:13Z</dcterms:created>
  <dc:creator>Gabriella</dc:creator>
  <dc:description/>
  <dc:language>en-US</dc:language>
  <cp:lastModifiedBy>vitali</cp:lastModifiedBy>
  <dcterms:modified xsi:type="dcterms:W3CDTF">2008-08-26T12:48:22Z</dcterms:modified>
  <cp:revision>96</cp:revision>
  <dc:subject/>
  <dc:title>Esercitazione 16 novembre 2004</dc:title>
</cp:coreProperties>
</file>