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624640" y="0"/>
            <a:ext cx="43020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51160" y="528120"/>
            <a:ext cx="3424320" cy="256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6419520"/>
            <a:ext cx="43020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624640" y="6419520"/>
            <a:ext cx="43020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5753-FDF1-4F04-B14C-FCABBEF921A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C1A2-2A9B-4CDC-B6B6-5F5512E3D8E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4016-BEB6-4AA4-841A-9070E2E1AD0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5BDE-9112-48A8-9ECE-A44A06A9547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03DF-83D8-4ED1-BDEC-3E37C45B234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EF53-6367-4920-8A4F-90481F68AE5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AEAA-9A00-43AB-8678-AEDF60B69F4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CB56-0866-46CE-BD01-76E9070B754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69DC-9CC5-4B7D-A062-F30013414EF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14FA-2A4B-4D98-A1AD-324A82651FC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AFB6-4230-427F-B495-CA9348C4169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E1E5-E57A-4A29-8282-DC1355E064A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3832-FB07-4398-9CBA-C890823F9A3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722A-F6DF-443C-8AC4-7C41AEAD184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683E-CEB3-4CD5-BAC6-EC63951BFD9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104C-1BF8-4409-8349-963BF7E1879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E5E2-DDA3-471F-8D4E-9F23FEB5422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88D2-FEB9-48BB-BB5C-FAFB778DD57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28C3-966C-486C-99BA-F7A3FFD0A3D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DE6B-249F-4EDC-AB16-230A641B8AF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413712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04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36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04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03280" y="6237360"/>
            <a:ext cx="6300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Times New Roman"/>
              </a:rPr>
              <a:t>Claudio Vit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7093080" y="6400800"/>
            <a:ext cx="205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1116000" y="189000"/>
            <a:ext cx="58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8"/>
          <p:cNvSpPr/>
          <p:nvPr/>
        </p:nvSpPr>
        <p:spPr>
          <a:xfrm>
            <a:off x="8001000" y="228600"/>
            <a:ext cx="8920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Slide </a:t>
            </a:r>
            <a:fld id="{B592B9E3-B1C0-4BE5-9880-E8E2DE91F97A}" type="slidenum"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r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/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3840" cy="46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La costruzione delle reti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it-IT" sz="4000" spc="-1" strike="noStrike">
                <a:solidFill>
                  <a:srgbClr val="000099"/>
                </a:solidFill>
                <a:latin typeface="Times New Roman"/>
              </a:rPr>
              <a:t>il concetto di partenariato e le implicazioni operative</a:t>
            </a:r>
            <a:r>
              <a:rPr b="1" lang="it-IT" sz="40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99"/>
                </a:solidFill>
                <a:latin typeface="Times New Roman"/>
              </a:rPr>
              <a:t>Multiattorialit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7988400" cy="37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Il partenariato deve avere una composizione articolata, che comprenda soggetti rappresentativi di diversi contesti istituzionali e portatori di interessi diversific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Alcuni aspetti importa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ndivisione degli obiettivi  generali del proge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attese rispetto al lavoro di ciascun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 motivi che hanno indotto ciascun partner a partecipare all’inizia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gli obiettivi che i partner intendono raggiungere e i risultati da loro auspic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gli strumenti e le competenze che i partner possiedono per raggiungere gli obiet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problematiche legate all’adesione dei singoli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Il fattore cultur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Un ulteriore elemento da non sottovalutare sono gli aspetti culturali e caratteriali del partner, che se non ponderati rischiano di mettere in crisi un partenariato. A ciò di aggiunga la condivisione di una comune lingua di lav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4"/>
          <p:cNvSpPr/>
          <p:nvPr/>
        </p:nvSpPr>
        <p:spPr>
          <a:xfrm>
            <a:off x="1403280" y="6237360"/>
            <a:ext cx="6300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Modalità: ades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31128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Aderire ad un gruppo già costitu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95640" y="1989000"/>
            <a:ext cx="446112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7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Times New Roman"/>
              </a:rPr>
              <a:t>È una scelta che nasce dal desiderio di aderire ad una iniziativa considerata interessante quando non si possiede un’esperienza sufficiente per porsi alla guida di una partnership o quando non si possiede il tempo sufficiente per intessere le relazioni necessarie alla costituzione di un proprio partenari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Modalità: cre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316836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Creare un   nuovo gruppo    di part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5640" y="1989000"/>
            <a:ext cx="446112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È</a:t>
            </a: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 una scelta che nasce dal desiderio di realizzare un’iniziativa innovativa in cui si crede in modo particolare, presuppone una certa esperienza pregressa e richiede un grosso impegno nella fase di progettazione e </a:t>
            </a:r>
            <a:r>
              <a:rPr b="0" i="1" lang="it-IT" sz="2800" spc="-1" strike="noStrike">
                <a:solidFill>
                  <a:srgbClr val="000099"/>
                </a:solidFill>
                <a:latin typeface="Times New Roman"/>
              </a:rPr>
              <a:t>team building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Struttura del partenariato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11280" y="2491920"/>
            <a:ext cx="4824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 ste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 nod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d ho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Interre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1. Rete a stella </a:t>
            </a: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rete di nuova costitu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presenza di un partner leader con una maggiore esperienz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comunicazioni passano per il leader che stabilisce le procedure operative, organizza la banca dati centralizzata, assegna i compiti ai singoli partner, risolve eventuali conflitti, e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2. Rete a nodi 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l processo di socializzazione tra partner è  piuttosto avanz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 partner hanno un ruolo paritario, uguale esperienza e medesime caratterist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presenza di un leader rappresen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municazione circola in modo infor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3. Rete ad hoc 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rete è già matura ed i partner vantano rapporti consoli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non si evidenzia una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comunicazioni fra partner sono dir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4. Interrete 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modello di rete compl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cooperazione intensiva fra diversi partn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supporto di una struttura di coordinamento, punto di riferimento che garantisce la fluidità del flusso di informazioni fra i vari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ogni partner è responsabile della propria 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Perché fare rete?</a:t>
            </a:r>
            <a:r>
              <a:rPr b="1" lang="it-IT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Promuovere la cooperazioni fra organizzazioni che lavorano sugli stessi problemi ma che sono diverse per tipologia, rilevanza, esperienza e nazionalità consente di ottenere risultati con un valore aggiunto maggi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sa si intende per…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Una rete di partner la cui specificità risiede nelle connessioni tra i vari nodi e non nei nodi ste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l partenariato non si qualifica per i suoi componenti ma per le connessioni che tra questi si possono cre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9185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Obiettiv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Realizzare il progetto non attraverso un semplice trasferimento o scambio di informazioni, ma realizzando in comune prodotti o proces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isultati della r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Si caratterizzano 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ndivisione del lavoro tra realtà differ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’eterogeneità dei gruppi operativi che li hanno realizz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’ampio riconoscimento dei criteri di utilità ed efficacia utilizzati per la rea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sa imp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Il partenariato transnazionale comporta un accordo tra soggetti diversi appartenenti ad aree geografiche differenti, finalizzato a raggiungere obiettivi di interesse co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me si costituis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Ogni partner porta con sé e mette a disposizione dell’iniziativa le proprie risorse, le competenze e le esperien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aratteristiche del partenariato </a:t>
            </a: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nei Programmi comunit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23640" y="3284280"/>
            <a:ext cx="525636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1360" indent="-532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Transnazionali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532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imes New Roman"/>
              </a:rPr>
              <a:t>Multiattorial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99"/>
                </a:solidFill>
                <a:latin typeface="Times New Roman"/>
              </a:rPr>
              <a:t>Transnazionalità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52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Il partenariato riunisce persone e/o organismi provenienti da realtà geografiche differe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9:09:52Z</dcterms:created>
  <dc:creator>Trani</dc:creator>
  <dc:description/>
  <dc:language>en-US</dc:language>
  <cp:lastModifiedBy>vitali</cp:lastModifiedBy>
  <dcterms:modified xsi:type="dcterms:W3CDTF">2008-09-01T07:01:03Z</dcterms:modified>
  <cp:revision>131</cp:revision>
  <dc:subject/>
  <dc:title>Struttura Piano di monitoraggio</dc:title>
</cp:coreProperties>
</file>