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6627-41EE-4658-A34F-CBBD3023C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4F43-D86E-41EE-A72F-36489E01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E007-6219-404A-8D22-FB2078AED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733D-DF4D-49BF-A025-039BD0D20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5BAA-1F61-40B8-981B-17A81C02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4676-7469-42F6-B3A6-F9EB3407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3634-A638-446D-A7DD-7A89EF3C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C204-5A28-4320-83BE-12F49C8C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652A-C236-4A46-BF2A-8DF11CD9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93B6-E542-4FDC-91C7-D70E9EB0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CA09-9DB6-4E38-BA21-922CE46E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2F55-12D9-4D4B-B0AC-095F6CDC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8E07-E5F9-4464-9CE5-5EBD1A6F3D2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236000" y="189000"/>
            <a:ext cx="1755720" cy="1873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00000" y="1844640"/>
            <a:ext cx="6624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Metodologia G.O.P.P.</a:t>
            </a:r>
            <a:endParaRPr b="0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Il ruolo del facilitatore</a:t>
            </a:r>
            <a:endParaRPr b="0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Il setting d'aula</a:t>
            </a:r>
            <a:endParaRPr b="0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746520" y="1527120"/>
            <a:ext cx="129528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51640" y="2746440"/>
            <a:ext cx="129528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651640" y="3813120"/>
            <a:ext cx="129528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27600" y="4956120"/>
            <a:ext cx="129564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94040" y="3889440"/>
            <a:ext cx="129528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84400" y="4956120"/>
            <a:ext cx="129564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70000" y="2822400"/>
            <a:ext cx="129564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679840" y="35841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261120" y="3507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89120" y="4803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670200" y="4803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89120" y="480384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603520" y="46512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337440" y="45752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679840" y="274608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6337440" y="25938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55800" y="259380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356000" y="22892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679840" y="2593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87880" y="76500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empio di albero dei probl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42920" y="4941720"/>
            <a:ext cx="129564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06a"/>
                </a:solidFill>
                <a:latin typeface="Arial"/>
              </a:rPr>
              <a:t>IL LABORATORIO DI PROGETTAZIONE GOP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nalisi degli obietti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dentificazione degli obiettivi da perseguire a fronte dei problemi individu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Gerarchizzazione degli obiettivi (albero degli obiettivi) relazione di causa- effetto leggibile dal basso verso l’al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983040" y="1743120"/>
            <a:ext cx="1295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88160" y="2962440"/>
            <a:ext cx="1295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888160" y="4029120"/>
            <a:ext cx="1295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64120" y="5172120"/>
            <a:ext cx="1295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30560" y="4105440"/>
            <a:ext cx="1295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20920" y="5172120"/>
            <a:ext cx="1295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06520" y="3038400"/>
            <a:ext cx="1295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916360" y="38001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497640" y="372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25640" y="5019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906720" y="5019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25640" y="501984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840040" y="48672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573960" y="47912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916360" y="296208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573960" y="28098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92320" y="280980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592520" y="25052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916360" y="2809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32960" y="981000"/>
            <a:ext cx="50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empio di albero degli obiet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87280" y="5157720"/>
            <a:ext cx="1295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06a"/>
                </a:solidFill>
                <a:latin typeface="Arial"/>
              </a:rPr>
              <a:t>IL LABORATORIO DI PROGETTAZIONE GOP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icazione degli Ambiti di interv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dentificazione degli ambiti o aree di Obiettivi affini a seconda delle competenze istituzionali e/o tecnico-Professionali necessarie per raggiungerl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06a"/>
                </a:solidFill>
                <a:latin typeface="Arial"/>
              </a:rPr>
              <a:t>IL LABORATORIO DI PROGETTAZIONE GOP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celta degli ambiti di interv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Fra tutti gli ambiti individuati gli attori effettuano una scelta di quelli su cui intervenire in base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Urgenz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Risorse umane e finanziarie disponib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nteresse strate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Fattibilita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 QUADRO LO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livel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ific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IETTIVI GENERAL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EFICI SOCIALI O ECONOMICI DI LUNGO PERIODO AI QUALI CONTRIBUISCE IL PROGET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HE’ E’ IMPORTANTE PER LA SOCIETA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EFICIO CHE OTTENGONO I BENEFICIARI DAI SERVIZI FORNITI DAL PROGET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HE’ I BENEFICIARI NE HANNO BISOGNO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</a:tr>
              <a:tr h="95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ULTA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ZI CHE I BENEFICIARI RICEVERANNO DAL PROGET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A FORNISCE IL PROGETTO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</a:tr>
              <a:tr h="96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IVITA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O’ CHE VIENE REALIZZATO NEL PROGETTO PER FORNIRE I SERVIZI PREVI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A FA CONCRETAMENTE IL PROGETTO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06a"/>
                </a:solidFill>
                <a:latin typeface="Arial"/>
              </a:rPr>
              <a:t>DEFINIZIONE DEGLI INDIC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1773360"/>
            <a:ext cx="7775280" cy="4062600"/>
          </a:xfrm>
          <a:prstGeom prst="rect">
            <a:avLst/>
          </a:prstGeom>
          <a:solidFill>
            <a:srgbClr val="a0e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L’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INDICATORE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 E’ CIO’ 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SI PUO’ OSSERVARE NELLA REALTA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QUANDO SI RAGGIUNGE UN RISULTA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O UN OBIETTIVO O SI REALIZZA UNA ATTIVIT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ESSO E’ COSTITUITO 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UNA VARIA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UN VALORE DI RIFER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UN TARGET-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UN TEMPO DI OSSERV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AD ESEMPIO DIMINUZIONE DEL 10%(</a:t>
            </a: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VALORE 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RIFERIMENTO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)DELLA DISPERSIONE (</a:t>
            </a: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VARIABILE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DEGLI ALLIEVI DEL BIENNIO SUPERIORE (</a:t>
            </a: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TARGET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GROUP)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 ENTRO DUE ANNI (</a:t>
            </a: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TEMPO DI OSSERVAZIONE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IL ruolo del facilitat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1360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facilitatore  è  un consulente “di process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a ascoltare,permette a tutti di esprimersi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iuta il gruppo di lavoro a progred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è un animatore-moderatore esterno che è neutrale rispetto al tema in discus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n  impone il suo punto di vista e non prospet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luzioni che devono essere individuate dagli attori-chi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11640" y="1557360"/>
            <a:ext cx="719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1640" y="2852640"/>
            <a:ext cx="72072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67280" y="4149720"/>
            <a:ext cx="100800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2492280"/>
            <a:ext cx="84960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LI STRUMENTI DI LAVORO DEL FACILITATO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4360" y="1700280"/>
            <a:ext cx="320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A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84880" y="2211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65760" y="2211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47000" y="2211480"/>
            <a:ext cx="3045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427880" y="2211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954200">
            <a:off x="7884720" y="228744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04000" y="2211480"/>
            <a:ext cx="3045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41880" y="4497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22760" y="4497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61200" y="4497480"/>
            <a:ext cx="3045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122960" y="4497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113680" y="35830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22760" y="2211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41880" y="2211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13680" y="259236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113680" y="28972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113680" y="327816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79960" y="4497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42080" y="4497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88400">
            <a:off x="7923240" y="4306680"/>
            <a:ext cx="3045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113680" y="396396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04200" y="4497480"/>
            <a:ext cx="3045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61000" y="228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75200" y="1906560"/>
            <a:ext cx="152280" cy="3048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3016200">
            <a:off x="4494240" y="1944720"/>
            <a:ext cx="7632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18200" y="198288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99080" y="198288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61200" y="198288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979960" y="198288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42080" y="198288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122960" y="198288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04200" y="198288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13680" y="213516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80160" y="480204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5960" y="449748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56080" y="4726080"/>
            <a:ext cx="152280" cy="152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37160" y="480204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18400" y="480204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99280" y="480204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18200" y="472608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99080" y="480204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56280" y="480204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55920" y="5367240"/>
            <a:ext cx="127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ARETE LIS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4227480" y="47257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40440" y="1557360"/>
            <a:ext cx="217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VAGNA A FOGLI MOBI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532040" y="1677960"/>
            <a:ext cx="759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77000" y="51832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06520" y="521496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EST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4532040" y="4802040"/>
            <a:ext cx="1447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766120" y="3081240"/>
            <a:ext cx="190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ANCO PARTECIP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6056280" y="2363400"/>
            <a:ext cx="763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459640" y="26370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459640" y="294156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459640" y="33228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459640" y="362736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459640" y="40086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54936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A PREPARARE 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R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LA  METODOLOGIA  G.O.P.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71640" y="2420640"/>
            <a:ext cx="7416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metodologia G.O.P.P.(Goal Oriented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lanning),progettazione orientata agli obiettivi, 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metodo innovativ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per realizzare incontri  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voro in cui i diversi attori-chiave ed i benefici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 un progetto intervengono in manier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artecip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guendo una procedura di lavoro strutturata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uidat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a  un  facilita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11280" y="1628640"/>
            <a:ext cx="834840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MATERIALI DI CONSU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GLI (1X1,5 MT)DI CARTA DA PACCHI MARR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CARTONCINI (10X21 CM) DI COLORE GIA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CARTONCINI (10X21 CM) DI COLORE VE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CARTONCINI (10X21 CM) DI COLORE R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CARTONCINI (10X21 CM) DI COLORE BI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 PENNARELLI NERI A TRATTO GRO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PENNARELLI ROSSI E B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ROTOLO DI SCO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STICK DI COL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1280" y="26028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A PREPARARE 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PRI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258920" y="1989000"/>
            <a:ext cx="2743200" cy="1524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CRIV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ANDE E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MPAT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59280" y="4005360"/>
            <a:ext cx="3124080" cy="1600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CRIVERE U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LO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 OG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RTONC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48360" y="1989000"/>
            <a:ext cx="2971800" cy="1600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SCRIVERE N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PIU’ DI 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RIG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6920" y="33336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A PREPARARE 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PRI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975240" y="620640"/>
            <a:ext cx="594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Tahoma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DUR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95560" y="2246400"/>
            <a:ext cx="6978600" cy="33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EARE UN CLIMA DI PARTECIP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SERE NEUTRALI RISPETTO AL 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IUTARE IL GRUPPO A PROGRED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ARANTIRE UN SENSO DI PARITA’ A TU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VERE CONCRETEZZA NEI RISUL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TILIZZARE UNA LOGICA DI 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NDERE TRASPARENTI GLI INTERES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GLI ATTORI-CHI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STIRE I CONFLITTI IN MODO NEUT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61360" y="1584360"/>
            <a:ext cx="24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ahoma"/>
              </a:rPr>
              <a:t>IN GENER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55640" y="90792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DURANTE</a:t>
            </a:r>
            <a:br>
              <a:rPr sz="4400"/>
            </a:b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L’ANALISI DEI PROBLE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9200" y="2662200"/>
            <a:ext cx="8229600" cy="3070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L FACILITATORE AIUTA IL GRUPPO 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ENTIFICARE UN PROBLEMA COME CONDIZI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ALE vissuta da  chi la espr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GGETTIVA cioè basato su situazioni deter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GATIVA ATTUALE e non come solu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I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PECI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042920" y="1989000"/>
            <a:ext cx="7010640" cy="435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DOMANDE CHIU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-RISPOSTA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S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O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DOMANDE APERTE</a:t>
            </a: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D ESEMPIO NELL’ANALISI DEGLI ATTORI-CHIAV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COSA TI ASPETTI DI OTTENERE DA QUESTO INCONTR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RITIENI CHE L’OBIETTIVO PROPOSTO SODDISFI LE T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ASPETTATIV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D ESEMPIO NELL’ANALISI DEI PROBLEMI(in caso 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Formulazioni non corrette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COSA ACCADE NELLA REALTA’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QUALE PROBLEMA SI RISOLVE CON….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PERCHE’ QUESTO E’ UN PROBLEM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IN CHE MODO IL BENEFICIARIO PUO’ AVERE UN VANTAGGI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PUOI FARE UN ESEMPIO CONCRET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COSA NON E’ IN GRADO DI FARE  X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333360"/>
            <a:ext cx="77932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DURANTE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O DELLE DOMA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98480" y="2373480"/>
            <a:ext cx="7483680" cy="375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SCOLTARE  ATTENTAMENTE QUANTO STA DICENDO UN PARTECIP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MOSTRARE IN MODO NON VERBALE ATTENZIONE E INTERESSE A QUANTO D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SARE FRASI DEL TIPO  :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SE NON SBAGLIO TU DICI CHE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…….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IPETENDO E RIASSUMENDO IL PUNTO DI VISTA DI CHI INTERVIENE USANDO LE SUE STESSE PAROLE-CHIA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IEDERE CONFERMA A CHI HA PARLATO DELLA CORRETTEZZA DI SINTESI FAT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IEDERE AL GRUPPO SE E’ CHIARO QUANTO SINTETIZZ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35600" y="692280"/>
            <a:ext cx="594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Tahoma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DUR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12640" y="1865160"/>
            <a:ext cx="8077320" cy="4483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TECNICA DEL CATCH THE BALL E QUELLA 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ROTING SONO FONDAMENTALI NEL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DUZIONE DI UN GRUPPO DA PARTE DI 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CILITA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L CATCH THE B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ISTE NELL’AFFERR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 MOMENTO IN CUI IL GRUPPO ARRIVA A CHIAREZ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UNA DISCUSSIONE ED ESPRIMERE UNA SINTE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L PARROT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ISTE NEL RIPETERE IL DISCO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 UN PARTECIPANTE CON LE DOMANDE APERTE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EDERE CONFERMA DELLA SINTE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51600" y="333360"/>
            <a:ext cx="594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Tahoma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DUR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1125360"/>
            <a:ext cx="868680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CATCH THE BALL E PARRO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42880" y="628560"/>
            <a:ext cx="779292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O DELLA VISUAL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2920" y="2068560"/>
            <a:ext cx="7566120" cy="4117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VANTAG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LA RAPPRESENTAZIONE SU FOGLIO 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MOLTE INDICAZIONI PERMETTE 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VISIONE DI INSIEME ED UNA GEST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PIU’ SEMP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CONSENTE DI COMPRENDERE IL LE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DI CAUSA-EFFETTO TRA I VARI ELE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CONSENTE DI AVERE IL CONTRIBUTO 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TUTTO IL GRUP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CONSENTE DI FOCALIZZARE GLI INTERV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SU ELEMENTI SINTE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43600" y="620640"/>
            <a:ext cx="594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Tahoma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DUR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96760" y="549360"/>
            <a:ext cx="499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Tahoma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DO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79480" y="1724040"/>
            <a:ext cx="69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EPARARE UNA SCHEDA DI VALUTAZIONE INTER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43040" y="2530440"/>
            <a:ext cx="71625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81520" y="2606760"/>
            <a:ext cx="144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TA DI STES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43040" y="298764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172040" y="25304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39600" y="2612880"/>
            <a:ext cx="15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ATTIVITA’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3040" y="344484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94960" y="3063960"/>
            <a:ext cx="195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SULTATI ATTE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43040" y="397836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78320" y="3521160"/>
            <a:ext cx="274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ATO DI AVANZA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3040" y="443556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06400" y="405432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SULTATI OTTENU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43040" y="481644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66520" y="4511520"/>
            <a:ext cx="351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LEMENTI DI PROCESSO POSITI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43040" y="51973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6560" y="4892760"/>
            <a:ext cx="365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UALI OSTACOLI E PROBLE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19280" y="5661000"/>
            <a:ext cx="72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82360" y="5273640"/>
            <a:ext cx="214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ZIONI DA EVIT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01080" y="5730840"/>
            <a:ext cx="274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SSERVAZIONI GENER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896760" y="620640"/>
            <a:ext cx="499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Tahoma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DO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79480" y="1795320"/>
            <a:ext cx="69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EPARARE UNA SCHEDA DI VALUTAZIONE FI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43040" y="2602080"/>
            <a:ext cx="71625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781520" y="2678040"/>
            <a:ext cx="144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TA DI STES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3040" y="305928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72040" y="2602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39600" y="2684520"/>
            <a:ext cx="15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ATTIVITA’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43040" y="351648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94960" y="3135240"/>
            <a:ext cx="195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SULTATI ATTE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43040" y="404964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43040" y="450684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82360" y="359244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SULTATI OTTENU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43040" y="488808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66520" y="4583160"/>
            <a:ext cx="351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LEMENTI DI PROCESSO POSITI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43040" y="526896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78760" y="4964040"/>
            <a:ext cx="55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CARTO TRA ATTIVITA’ PROGRAMMATA E REALIZZ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19280" y="573264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55360" y="5372280"/>
            <a:ext cx="214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ZIONI DA EVIT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74080" y="5803920"/>
            <a:ext cx="274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SSERVAZIONI GENER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93880" y="4125960"/>
            <a:ext cx="643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UALI MOTIVI DI NON RAGGIUNGIMENTO DEI RISULT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progettazione per obietti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ogettazione è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ientata agli obiettiv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e non alle attivi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ogettazione è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ert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ioè definita sia con l’apporto degli attori-chiave che c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lo dei beneficiari finali del proget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modo che il progetto finale risult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divis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 rispondente ai problemi re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i beneficiar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copo dell’apprendimento laborator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ruire  e/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enziare le risorse della sing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 in apprend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averso metodologie didatt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 consentano ai giovani di riconoscere 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rie risorse e d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ruir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tenze orientative trasvers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211640" y="2133720"/>
            <a:ext cx="576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51280" y="3213000"/>
            <a:ext cx="129528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oratori di ricerca - 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obiettivo del MIU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è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attivazion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 processi di ricerca atti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esso le scuole secondarie di 2° grado che hanno mostrato attenzione verso l’innovazione e volontà di sperimentare e mettersi in “discussione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involge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ori-chia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a nell’individuazione dei probl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 nella ricerca delle solu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ambiente positivo e costruttivo in cui risulti prioritario                    il principio della condivisi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999200" y="5924520"/>
            <a:ext cx="2448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0755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IL LABORATORIO DI PROGETTAZIONE GOP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IETTIVO FINALE DI UN LABOR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GO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’ QUELLO DI DEFINIRE UNA MATRICE D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ETTAZI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(QUADRO LOGIC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CUI  L’IDEA PROGETTUALE E’ SVILUPP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UTTI GLI ELEMENTI FONDAMENT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IETTIVI GENERALI, SCOPO, RISULTATI, ATTIVITA’, RISCHI, PREREQUISI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06a"/>
                </a:solidFill>
                <a:latin typeface="Arial"/>
              </a:rPr>
              <a:t>IL LABORATORIO DI PROGETTAZIONE GOP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E DI ANALI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zione del 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isi degli attori-chi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isi dei proble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isi degli obietti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ividuazione ambiti di interv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06a"/>
                </a:solidFill>
                <a:latin typeface="Arial"/>
              </a:rPr>
              <a:t>IL LABORATORIO DI PROGETTAZIONE GOP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ZIONE DEL 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 tema  è l’argomento su cui avviene la progett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econda dell’ampiezza del tema varia 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mero di attori-chiave da coinvolgere 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le risorse da impieg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06a"/>
                </a:solidFill>
                <a:latin typeface="Arial"/>
              </a:rPr>
              <a:t>IL LABORATORIO DI PROGETTAZIONE GOPP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nalisi degli attori-chi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dentificare i soggetti portatori di interessi qualificati che possono contribuire all’intervento progettu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dentificare in modo trasparente gli interessi e le aspettative di ciascun attore-chi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dentificare il contributo che ciascun attore- chiave puo’ apportare al proge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06a"/>
                </a:solidFill>
                <a:latin typeface="Arial"/>
              </a:rPr>
              <a:t>IL LABORATORIO DI PROGETTAZIONE GOP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nalisi dei proble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dentificazione dei problemi relativi al  tema (situazioni negative attuali ed oggettive e possibili cau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Gerarchizzazione dei problemi (albero dei problemi) relazione di causa- effetto leggibile dal basso verso l’al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9:02:36Z</dcterms:created>
  <dc:creator>Standard</dc:creator>
  <dc:description/>
  <dc:language>en-US</dc:language>
  <cp:lastModifiedBy>enzo d'onofrio</cp:lastModifiedBy>
  <dcterms:modified xsi:type="dcterms:W3CDTF">2006-01-23T11:58:19Z</dcterms:modified>
  <cp:revision>14</cp:revision>
  <dc:subject/>
  <dc:title>LA  METODOLOGIA  G.O.P.P.</dc:title>
</cp:coreProperties>
</file>