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36A4-0D52-4C83-BCF1-190074463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4AC3-16F7-4638-AA4B-E9601A99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605F-0D73-41AE-86C3-600D231D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783B-C71F-4A80-8819-A51B8466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7C8B-3C47-4A35-BCA4-4D368E06D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93A1-0A81-432B-A4AC-FACDA19F4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9669-3F30-442D-A218-4DB6F972E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66B7-7C9D-4019-9174-E23CE4B87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0824-D7EE-4D24-9964-10AA3846E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B91-7E0B-457B-BF2A-F450DFBE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EF8B-DCCF-46FF-9272-86AE9337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79304-19A7-479A-B208-B5108BE07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F507-52D4-46E8-B529-E3339C1833C1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755720" cy="187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1844640"/>
            <a:ext cx="662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Metodologia G.O.P.P.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Il ruolo del facilitatore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Il setting d'aula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46520" y="1527120"/>
            <a:ext cx="1295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2746440"/>
            <a:ext cx="1295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3813120"/>
            <a:ext cx="1295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7600" y="49561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94040" y="3889440"/>
            <a:ext cx="1295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4400" y="49561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70000" y="282240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79840" y="3584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61120" y="3507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89120" y="4803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670200" y="4803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89120" y="48038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603520" y="4651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337440" y="45752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679840" y="27460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337440" y="2593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55800" y="25938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356000" y="2289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679840" y="2593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87880" y="7650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empio di albero de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49417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gli 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dentificazione degli obiettivi da perseguire a fronte dei problemi individu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erarchizzazione degli obiettivi (albero degli obiettivi) relazione di causa- effetto leggibile dal basso verso l’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83040" y="174312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88160" y="2962440"/>
            <a:ext cx="1295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88160" y="402912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64120" y="51721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30560" y="4105440"/>
            <a:ext cx="1295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20920" y="51721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06520" y="303840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16360" y="3800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497640" y="372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25640" y="5019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06720" y="5019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25640" y="50198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840040" y="4867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573960" y="47912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16360" y="29620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573960" y="2809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92320" y="28098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92520" y="250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16360" y="2809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32960" y="98100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empio di albero degl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51577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cazione degli Ambiti di inter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icazione degli ambiti o aree di Obiettivi affini a seconda delle competenze istituzionali e/o tecnico-Professionali necessarie per raggiunger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elta degli ambiti di interv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ra tutti gli ambiti individuati gli attori effettuano una scelta di quelli su cui intervenire in base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rgenz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sorse umane e finanziarie disponi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teresse strate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ttibilit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QUADR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live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IETTIVI GENER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CI SOCIALI O ECONOMICI DI LUNGO PERIODO AI QUALI CONTRIBUISCE I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HE’ E’ IMPORTANTE PER LA SOCIETA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CIO CHE OTTENGONO I BENEFICIARI DAI SERVIZI FORNITI DA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HE’ I BENEFICIARI NE HANNO BISOGN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ZI CHE I BENEFICIARI RICEVERANNO DA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A FORNISCE IL PROGETT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VITA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O’ CHE VIENE REALIZZATO NEL PROGETTO PER FORNIRE I SERVIZI PREVI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A FA CONCRETAMENTE IL PROGETT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06a"/>
                </a:solidFill>
                <a:latin typeface="Arial"/>
              </a:rPr>
              <a:t>DEFINIZIONE DEGLI INDIC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773360"/>
            <a:ext cx="7775280" cy="4062600"/>
          </a:xfrm>
          <a:prstGeom prst="rect">
            <a:avLst/>
          </a:prstGeom>
          <a:solidFill>
            <a:srgbClr val="a0e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L’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DICATOR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E’ CIO’ 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I PUO’ OSSERVARE NELLA REALTA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QUANDO SI RAGGIUNGE UN RISUL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O UN OBIETTIVO O SI REALIZZA UNA ATTIV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ESSO E’ COSTITUITO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A VARI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VALORE DI RI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TARGET-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TEMPO DI OSSER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D ESEMPIO DIMINUZIONE DEL 10%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VALOR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RIFERIMENTO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DELLA DISPERSIONE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VARIABIL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DEGLI ALLIEVI DEL BIENNIO SUPERIORE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TARGE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GROUP)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ENTRO DUE ANNI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TEMPO DI OSSERVAZION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L ruolo del facilitat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136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facilitatore  è  un consulente “di process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 ascoltare,permette a tutti di esprimersi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iuta il gruppo di lavoro a progred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un animatore-moderatore esterno che è neutrale rispetto al tema in discu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 impone il suo punto di vista e non prospe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luzioni che devono essere individuate dagli attori-chi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1557360"/>
            <a:ext cx="719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2852640"/>
            <a:ext cx="7207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4149720"/>
            <a:ext cx="1008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492280"/>
            <a:ext cx="8496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I STRUMENTI DI LAVORO DEL FACILITAT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4360" y="170028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84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576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47000" y="2211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27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954200">
            <a:off x="7884720" y="228744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04000" y="2211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188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227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61200" y="4497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229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13680" y="35830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2276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1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13680" y="25923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13680" y="28972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13680" y="32781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799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4208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88400">
            <a:off x="7923240" y="43066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113680" y="39639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04200" y="4497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61000" y="228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75200" y="1906560"/>
            <a:ext cx="15228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3016200">
            <a:off x="4494240" y="1944720"/>
            <a:ext cx="76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18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9908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61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79960" y="19828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4208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22960" y="19828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04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3680" y="213516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80160" y="480204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5960" y="44974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56080" y="472608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7160" y="480204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1840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992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18200" y="47260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990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562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5920" y="5367240"/>
            <a:ext cx="12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ETE LIS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4227480" y="4725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40440" y="1557360"/>
            <a:ext cx="217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VAGNA A FOGLI MOBI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532040" y="167796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77000" y="5183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6520" y="521496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ES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532040" y="4802040"/>
            <a:ext cx="1447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66120" y="3081240"/>
            <a:ext cx="190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ANCO PARTECIP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6056280" y="236340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459640" y="2637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59640" y="294156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59640" y="33228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459640" y="362736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459640" y="40086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549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A  METODOLOGIA  G.O.P.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640" y="2420640"/>
            <a:ext cx="741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metodologia G.O.P.P.(Goal Oriented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lanning),progettazione orientata agli obiettivi, 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etodo innovativ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realizzare incontri 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voro in cui i diversi attori-chiave ed i benefici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un progetto intervengono in manier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ecip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guendo una procedura di lavoro strutturat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uida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 un  facil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11280" y="1628640"/>
            <a:ext cx="83484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ATERIALI DI CONSU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GLI (1X1,5 MT)DI CARTA DA PACCHI MAR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GI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R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BI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PENNARELLI NERI A TRATTO GRO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PENNARELLI ROSSI E B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ROTOLO DI SCO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STICK DI CO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2602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58920" y="1989000"/>
            <a:ext cx="2743200" cy="1524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RIV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NDE 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MPAT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4005360"/>
            <a:ext cx="3124080" cy="16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RIVER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L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 OG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TONC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1989000"/>
            <a:ext cx="2971800" cy="16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CRIVERE N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IU’ DI 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RI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33336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75240" y="62064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95560" y="2246400"/>
            <a:ext cx="6978600" cy="33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ARE UN CLIMA DI PARTECIP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RE NEUTRALI RISPETTO AL 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IUTARE IL GRUPPO A PROGRED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ARANTIRE UN SENSO DI PARITA’ A TU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VERE CONCRETEZZA NE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TILIZZARE UNA LOGICA DI 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DERE TRASPARENTI GLI INTER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GLI ATTORI-CHI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STIRE I CONFLITTI IN MODO NEUT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61360" y="1584360"/>
            <a:ext cx="24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ahoma"/>
              </a:rPr>
              <a:t>IN GENE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90792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URANTE</a:t>
            </a: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L’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00" y="2662200"/>
            <a:ext cx="8229600" cy="307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FACILITATORE AIUTA IL GRUPPO 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ICARE UN PROBLEMA COME CONDI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LE vissuta da  chi la esp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GGETTIVA cioè basato su situazioni de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GATIVA ATTUALE e non come sol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ECI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42920" y="1989000"/>
            <a:ext cx="7010640" cy="435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OMANDE CHIU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-RISPOSTA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OMANDE APERTE</a:t>
            </a: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D ESEMPIO NELL’ANALISI DEGLI ATTORI-CHIA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TI ASPETTI DI OTTENERE DA QUESTO INCONT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ITIENI CHE L’OBIETTIVO PROPOSTO SODDISFI LE T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ASPETTATIV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D ESEMPIO NELL’ANALISI DEI PROBLEMI(in caso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Formulazioni non corrett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ACCADE NELLA REALTA’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QUALE PROBLEMA SI RISOLVE CON….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PERCHE’ QUESTO E’ UN PROBLEM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IN CHE MODO IL BENEFICIARIO PUO’ AVERE UN VANTAGG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PUOI FARE UN ESEMPIO CONCRE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NON E’ IN GRADO DI FARE  X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333360"/>
            <a:ext cx="7793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URANT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ELLE DO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98480" y="2373480"/>
            <a:ext cx="7483680" cy="375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COLTARE  ATTENTAMENTE QUANTO STA DICENDO UN PARTECIP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MOSTRARE IN MODO NON VERBALE ATTENZIONE E INTERESSE A QUANTO D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SARE FRASI DEL TIPO  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 NON SBAGLIO TU DICI CH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…….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PETENDO E RIASSUMENDO IL PUNTO DI VISTA DI CHI INTERVIENE USANDO LE SUE STESSE PAROLE-CHI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IEDERE CONFERMA A CHI HA PARLATO DELLA CORRETTEZZA DI SINTESI FA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IEDERE AL GRUPPO SE E’ CHIARO QUANTO SINTETIZZ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5600" y="69228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12640" y="1865160"/>
            <a:ext cx="8077320" cy="4483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TECNICA DEL CATCH THE BALL E QUELLA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ROTING SONO FONDAMENTALI N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DUZIONE DI UN GRUPPO DA PARTE DI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IL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CATCH THE B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ISTE NELL’AFFER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MOMENTO IN CUI IL GRUPPO ARRIVA A CHIAR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UNA DISCUSSIONE ED ESPRIMERE UNA 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PARRO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ISTE NEL RIPETERE IL DIS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 UN PARTECIPANTE CON LE DOMANDE APERTE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EDERE CONFERMA DELLA 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51600" y="33336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125360"/>
            <a:ext cx="86868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ATCH THE BALL E PARR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42880" y="628560"/>
            <a:ext cx="77929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O DELLA VISU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2920" y="2068560"/>
            <a:ext cx="7566120" cy="411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ANTAG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A RAPPRESENTAZIONE SU FOGLIO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MOLTE INDICAZIONI PERMETTE 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ISIONE DI INSIEME ED UNA 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IU’ SEMP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COMPRENDERE IL LE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I CAUSA-EFFETTO TRA I VARI ELE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AVERE IL CONTRIBUTO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TUTTO IL GR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FOCALIZZARE GLI INTERV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U ELEMENTI SINTE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3600" y="62064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96760" y="549360"/>
            <a:ext cx="49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O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79480" y="172404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PARARE UNA SCHEDA DI VALUTAZIONE INTER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3040" y="2530440"/>
            <a:ext cx="7162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81520" y="2606760"/>
            <a:ext cx="144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DI STES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3040" y="2987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72040" y="2530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39600" y="26128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ATTIVITA’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3040" y="34448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94960" y="306396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ATT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040" y="39783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8320" y="3521160"/>
            <a:ext cx="274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ATO DI AVANZ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3040" y="44355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6400" y="405432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3040" y="48164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66520" y="4511520"/>
            <a:ext cx="35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MENTI DI PROCESSO POS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3040" y="51973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560" y="4892760"/>
            <a:ext cx="36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UALI OSTACOLI E PROBL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9280" y="566100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82360" y="527364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ZIONI DA EVI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1080" y="573084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SSERVAZIONI GENE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96760" y="620640"/>
            <a:ext cx="49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O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9480" y="179532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PARARE UNA SCHEDA DI VALUTAZIONE F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3040" y="2602080"/>
            <a:ext cx="7162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81520" y="2678040"/>
            <a:ext cx="144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DI STES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3040" y="30592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72040" y="2602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39600" y="268452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ATTIVITA’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3040" y="35164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94960" y="313524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ATT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3040" y="4049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3040" y="45068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82360" y="35924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43040" y="48880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6520" y="4583160"/>
            <a:ext cx="35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MENTI DI PROCESSO POS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3040" y="52689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78760" y="4964040"/>
            <a:ext cx="55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CARTO TRA ATTIVITA’ PROGRAMMATA E REALIZZ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9280" y="5732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55360" y="537228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ZIONI DA EVI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74080" y="580392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SSERVAZIONI GENE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93880" y="4125960"/>
            <a:ext cx="64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UALI MOTIVI DI NON RAGGIUNGIMENTO DEI RISUL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rogettazione per obiet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ogettazione è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ta agli obietti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 non alle attiv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ogettazione è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rt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ioè definita sia con l’apporto degli attori-chiave che c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o dei beneficiari final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modo che il progetto finale risult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vis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rispondente ai problemi re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i beneficia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copo dell’apprendimento laborator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ruire  e/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ziare le risorse della sing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 in app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verso metodologie didat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consentano ai giovani di riconoscere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 risorse e d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rui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nze orientative trasvers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2133720"/>
            <a:ext cx="576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51280" y="321300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oratori di ricerca - 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obiettivo del MI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ttivazio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processi di ricerca at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sso le scuole secondarie di 2° grado che hanno mostrato attenzione verso l’innovazione e volontà di sperimentare e mettersi in “discussion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involg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ori-chi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nell’individuazione de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nella ricerca delle solu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ambiente positivo e costruttivo in cui risulti prioritario                    il principio della condivisi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999200" y="5924520"/>
            <a:ext cx="244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O FINALE DI UN 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GO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’ QUELLO DI DEFINIRE UNA MATRICE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ETTA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(QUADRO LOGIC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CUI  L’IDEA PROGETTUALE E’ SVILUPP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UTTI GLI ELEMENTI FONDAMENT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I GENERALI, SCOPO, RISULTATI, ATTIVITA’, RISCHI, PREREQUIS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DI ANAL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zione del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gli attori-chi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gli 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viduazione ambiti di inter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ZIONE DEL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 tema  è l’argomento su cui avviene la proget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econda dell’ampiezza del tema varia 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o di attori-chiave da coinvolgere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e risorse da impie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gli attori-chi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 soggetti portatori di interessi qualificati che possono contribuire all’intervento progett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n modo trasparente gli interessi e le aspettative di ciascun attore-chi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l contributo che ciascun attore- chiave puo’ apportare a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dentificazione dei problemi relativi al  tema (situazioni negative attuali ed oggettive e possibili ca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erarchizzazione dei problemi (albero dei problemi) relazione di causa- effetto leggibile dal basso verso l’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9:02:36Z</dcterms:created>
  <dc:creator>Standard</dc:creator>
  <dc:description/>
  <dc:language>en-US</dc:language>
  <cp:lastModifiedBy>enzo d'onofrio</cp:lastModifiedBy>
  <dcterms:modified xsi:type="dcterms:W3CDTF">2006-01-23T11:58:19Z</dcterms:modified>
  <cp:revision>14</cp:revision>
  <dc:subject/>
  <dc:title>LA  METODOLOGIA  G.O.P.P.</dc:title>
</cp:coreProperties>
</file>