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19E0-94CF-4C43-AD04-E85668F14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98D-A86B-4631-BE00-4A0A6BE7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8CEC-4F74-4641-9EB2-AD70EB60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C0BB-1487-47F0-8FEF-B8B824BE5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DBB-A511-4FA4-84FE-E091BC21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8DCF-B4DD-4C8A-AC80-716F36197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7E1B-44C3-4444-89FE-638D4A74E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49F5-0D83-4CBB-B596-DB090A843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1403-9DA5-40E5-B737-1177621D9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5A91-3769-47C2-A9FF-144A1328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D0EC-EAA9-4F65-AF20-02B9E3D7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FFB3-AC87-4D71-A928-7C498B44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1898-12F4-4B5F-8E53-7C327210C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421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3F0-A01E-40FC-8352-2C27B26DEA7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azione dei Fondi negli Stati membri assume la forma di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grammi operativi all’interno del quadro di riferimento strategico nazion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gni programma operativo copre un periodo tra il 1 gennaio 2007 e il 31 dicembre 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gramma operativo copre solo uno dei tre obiettivi comunitari, salvo deroga concordata tra lo Stato membro e la Commiss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zione e approvazione dei programmi opera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3743-780D-4A65-A70C-B7B2C36B0E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a di intervento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8673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cade la precedente suddivisione del territorio a livello intraregionale di cui al previgente art. 4 del regolamento (CE) 1260/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’area di intervento è determinata a livello reg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 copre l’intero territorio della Regione interess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lla base dell’elenco presentato dallo Stato alla Commissione Europea (art.6 reg. (CE) 1083/200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CF10-00C9-43FE-AB0A-1D4CA3AD0F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705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ov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00" y="126828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8000" y="249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844640"/>
            <a:ext cx="3095640" cy="12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o sviluppo e l’adeguamento strutturale delle Regioni che presentano ritardi nello 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0360" y="126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3640" y="335772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a riconversione economica e sociale delle zone con difficoltà strut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3640" y="472428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’ammodernamento delle politiche  e dei sistemi di istruzione, formazion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393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40360" y="4221000"/>
            <a:ext cx="936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2000" y="184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ver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lerare la convergenza degli Stati membri e regioni, in ritardo di sviluppo, migliorando le condizioni di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72000" y="335772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mpetitività regional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mpetitività e le attrattive delle regioni e l’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40360" y="4508640"/>
            <a:ext cx="3887640" cy="16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operazione territorial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operazione transfrontaliera e transnazionale mediante iniziative congiunte locali 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stituisce tutti i vari programmi INTER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218-798D-40AA-932D-48058029E3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12360" y="620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ove Auto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1413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48000" y="2637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280" y="1989000"/>
            <a:ext cx="3456000" cy="10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40360" y="141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3284640"/>
            <a:ext cx="3456000" cy="130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Pag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 elaborare e presentare  le richieste di pagamento e di ricevere i pagamenti dalla Commission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280" y="4869000"/>
            <a:ext cx="3456000" cy="14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zio di Controllo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volge attività di controllo sul sistema di gestione e sull’attendibilità delle domande finali di pagamento inoltrate alla Commissione Europ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Reg.  CE 438/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48000" y="393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48000" y="537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2000" y="198900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2000" y="328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Certific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 certificare  le dichiarazioni di spesa e le domande di pagamento prima del loro invio alla Commiss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72000" y="486900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utorità di Aud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e  della verifica dell’efficace funzionamento del sistema di gestione  e di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AB2A-3094-4E28-8639-E8F6816622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mi Oper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QSN si attua tramite i Programmi Operativi, documenti che declinano le priorità strategiche per settori e ter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ciclo di programmazione 2007-2013 i 66 PO sono "monofondo", ciascun PO sarà cofinanziato da un solo Fondo strutturale. Ci sono dunque 42 PO finanziati dal Fondo Europeo di Sviluppo Regionale (FESR) e 24 PO finanziati dal Fondo Sociale Europeo (F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base alle tematiche affrontate e ai soggetti istituzionali competenti, i PO possono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z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 settori con particolari esigenze di integrazione a livello nazionale, la cui Autorità di Gestione è una Amministrazione Centrale (5 FESR, 3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multisettoriali, riferiti alle singole regioni gestiti dalle Amministrazioni Regionali. Per ciascuna Regione c’è un POR FESR e un POR FSE (21 FESR, 21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AAD8-70CF-4B02-B938-B7F94772465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regionali 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I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: su tematiche in cui risulta particolarmente efficace un’azione fortemente coordinata fra Regioni che consenta di cogliere economie di scala e di scopo nell’attuazione degli interventi (Energia, Attrattori culturali naturali e turismo); gestiti dalle Regioni, con la partecipazione di centri di competenza nazionale o Amministrazioni centrali (2 FES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PO – ai fini della realizzazione degli interventi – si riferiscono ai tre Obiettivi della politica di coesione 2007/2013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mpetitività Regionale e Occupazione) sono compresi i 33 PO che riguardano tutte le regioni del Centro Nord – incluse le Province Autonome di Bolzano e Trento - e le tre regioni del Mezzogiorno: Abruzzo, Molise e Sardeg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V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nvergenza), sono compresi i 19 PO che riguardano le rimanenti regioni del Mezzogiorno: Basilicata, Calabria, Campania, Puglia e Sicil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operazione territoriale europea) sono compresi i 7 PO della cooperazione transfrontaliera, di cui 6 hanno come Autorità di Gestione una Regione italiana, i 4 PO della cooperazione transnazionale, tutti con Autorità di Gestione non Italiana, il PO cofinanziato dal FESR e dallo strumento di preadesione (IPA), i 2 PO cofinanziati dal FESR e dallo strumento di prossimità e di vicinato (ENP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42DF-2BB1-4122-B767-C0AEB12C7A8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1628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8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89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9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060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promuovere uno sviluppo armonioso dell'insieme della Comunità, questa sviluppa e prosegue la propria azione intesa a realizzare il rafforzamento della sua coesione economica e soci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articolare la Comunità mira a ridurre il divario tra i livelli di sviluppo delle varie regioni ed il ritardo delle regioni meno favorite o insulari, comprese le zone rur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07664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i Stati membri conducono la loro politica economica e la coordinano anche al fine di raggiungere gli obiettivi dell'articolo 158. L'elaborazione e l'attuazione delle politiche e azioni comunitarie, nonché l'attuazione del mercato interno tengono conto degli obiettivi dell'articolo 158 e concorrono alla loro realizzazione. La Comunità appoggia questa realizzazione anche con l'azione che essa svolge attraverso fondi a finalità strutturale (Fondo europeo agricolo di orientamento e di garanzia, sezione « orientamento », Fondo sociale europeo, Fondo europeo di sviluppo regionale), la Banca europea per gli investimenti e gli altri strumenti finanziari esist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5C9-FFFF-4D20-8861-AF74925C008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8000" y="2205000"/>
            <a:ext cx="86407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t.158 e 159 del Tratt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1080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1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3/2006 dd.11 luglio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golamento gener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ti norm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71628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ovo approccio comunitario ai fondi struttur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508640"/>
            <a:ext cx="792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cepimento delle priorità comunitarie per uno sviluppo sostenibile, definite nel Consiglio europeo di Lisbona del 23 e 24 marzo 2000 e del Consiglio europeo di Goteborg del 15 e 16 giugno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La politica di coesione inquadra l’intervento dei Fondi strutturali non più quale atto aggiuntivo ed addizionale rispetto alle politiche di sviluppo nazionali ma quale elemento integrato, con le stesse,  preposto a garantire un ottimale e coordinato utilizzo di tali Fondi all’interno di un quadro strategico di sviluppo nazionale d’insieme che tenga conto tanto dei finanziamenti nazionali quanto di quelli europei in una visione integrata e priva di sovrapposizioni o di caren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72CF-E723-4BC3-B2EF-C5B688D0F0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I DI INTERV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84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MENTARIETÀ, COERENZA E CONFORM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924280"/>
            <a:ext cx="676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Fondi intervengono a complemento delle azioni nazionali, regionali e locali, integrandovi le priorità della Comun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ommissione e gli Stati membri vigilano sulla coerenza dell’intervento dei Fondi e di quello degli Stati membri con le azioni, le politiche e le priorità della Comunità. La coerenza, in particolare, si fissa negli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entamenti strategici della Comunit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ne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adro di riferimento strategico naziona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i programmi operativ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o il seguente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276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9640" y="4869000"/>
            <a:ext cx="1584360" cy="1152360"/>
            <a:chOff x="539640" y="4869000"/>
            <a:chExt cx="1584360" cy="1152360"/>
          </a:xfrm>
        </p:grpSpPr>
        <p:sp>
          <p:nvSpPr>
            <p:cNvPr id="59" name=""/>
            <p:cNvSpPr/>
            <p:nvPr/>
          </p:nvSpPr>
          <p:spPr>
            <a:xfrm>
              <a:off x="539640" y="508464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486900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95640" y="5445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157720"/>
            <a:ext cx="1944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4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04000" y="4508640"/>
            <a:ext cx="1944720" cy="1873080"/>
            <a:chOff x="6804000" y="4508640"/>
            <a:chExt cx="1944720" cy="1873080"/>
          </a:xfrm>
        </p:grpSpPr>
        <p:sp>
          <p:nvSpPr>
            <p:cNvPr id="65" name=""/>
            <p:cNvSpPr/>
            <p:nvPr/>
          </p:nvSpPr>
          <p:spPr>
            <a:xfrm>
              <a:off x="6877080" y="515772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04000" y="450864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3148-68BC-4F68-9ED3-54B0397CBBF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 di intervento dei vari documenti all’interno della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429000"/>
            <a:ext cx="259056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quadramento degli obiettivi comunitari all’interno di quadro di riferimento strategico naz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QS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581360"/>
            <a:ext cx="27417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lizzazione di un Documento Unitario regionale per la realizzazione della politica di Coe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589720"/>
            <a:ext cx="36576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ma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ilizzo coordinato ed integrato dei Finanzia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munitari, nazionali, region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32000" y="1844640"/>
            <a:ext cx="1944720" cy="1439640"/>
            <a:chOff x="3132000" y="1844640"/>
            <a:chExt cx="1944720" cy="1439640"/>
          </a:xfrm>
        </p:grpSpPr>
        <p:sp>
          <p:nvSpPr>
            <p:cNvPr id="73" name=""/>
            <p:cNvSpPr/>
            <p:nvPr/>
          </p:nvSpPr>
          <p:spPr>
            <a:xfrm>
              <a:off x="3205080" y="2205000"/>
              <a:ext cx="18288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ientamenti strategici e definizione obiettivi Comu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2000" y="1844640"/>
              <a:ext cx="1944720" cy="1439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7F2-85AE-46B1-963B-4DA0C53998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557360"/>
            <a:ext cx="7991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e più attraenti gli Stati membri, le regioni e le città migliorando l’accessibilità, garantendo una qualità e un livello adeguati di servizi e tutelando l’amb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muovere l’innovazione, l’imprenditorialità e lo sviluppo dell’economia della conoscenza mediante lo sviluppo della ricerca e dell’innovazione, comprese le nuove tecnologie dell’informazione e della comunicazio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re nuovi e migliori posti di lavoro attirando un maggior numero di persone verso il mercato del lavoro o l’attività imprenditoriale, migliorando l’adattabilità dei lavoratori e delle imprese e aumentando gli investimenti nel capitale um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a strategia di Lisbon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nnovata per la crescita e l’occupazione e i programmi nazionali di riforma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ttolineano il ruolo dell’ambiente per la crescita, la competitività e l’occup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corre tener conto della protezione dell’ambiente nella preparazione dei programmi e dei progetti volti a promuovere lo sviluppo sosteni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1125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menti strategici comuni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3736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unicazione al Consiglio europeo di primavera - “Lavorare insieme per la crescita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occupazione - Il rilancio della strategia di Lisbona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 (2005) 24, 2.2.2005.11807/06 DT/g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A4C-0B8F-46E7-B0CF-C0C1DFDDB2B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981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70436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quadro delle priorità di finanziamento dei Fondi Comunitari viene definito secondo un rapporto gerarchico  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golamento comunitario 1083/200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adro Strategico Nazionale (Q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rt.27 Reg. (CE) 1083 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comu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789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e le Regioni e l’Europa  più attraenti per gli investi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386064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’innovazione e la conoscenza a favore della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860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ovi e migliori posti di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860640"/>
            <a:ext cx="1800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nsione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e/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5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50115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e valorizzazione delle risorse u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869000"/>
            <a:ext cx="23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zione e valorizzazione della ricerca  della innovazione per la competi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494028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sostenibile ed efficiente delle risorse ambien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501156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orizzazione delle risorse na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87700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ttività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6093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 e colleg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8053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zione investimenti inter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5805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7340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sistemi produt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6237360"/>
            <a:ext cx="2592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cit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iluppo urbano soste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742A-EBCA-4688-86EF-60F8A0FBC8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 Unitario di Programmazione della Politica regionale di Coe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 disposizioni del Quadro Strategico Nazionale (QSN) prevedono che ogni Regione adotti un documento nel quale declinare  la strategia specifica di politica regionale  di coesione all’interno della propria programmazione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2519280" cy="580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o Unitario di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generali comunitari con riferimento alle priorità definite dal Q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516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politica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602136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zione strumenti di Attu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6021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specifici comunitari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51577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tena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7664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o di programmazione finanziaria unitaria delle ris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221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à regiona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5084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595008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Comunitari politica agric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07664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strutturali della politica di coe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5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05E8-F9B4-4ECF-85F8-9E612C50095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i presentazione document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2133720"/>
            <a:ext cx="1584360" cy="1152360"/>
            <a:chOff x="395280" y="2133720"/>
            <a:chExt cx="1584360" cy="1152360"/>
          </a:xfrm>
        </p:grpSpPr>
        <p:sp>
          <p:nvSpPr>
            <p:cNvPr id="117" name=""/>
            <p:cNvSpPr/>
            <p:nvPr/>
          </p:nvSpPr>
          <p:spPr>
            <a:xfrm>
              <a:off x="395280" y="234936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920" y="213372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95640" y="2637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716280"/>
            <a:ext cx="19443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4005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5280" y="4581360"/>
            <a:ext cx="1944720" cy="1873080"/>
            <a:chOff x="395280" y="4581360"/>
            <a:chExt cx="1944720" cy="1873080"/>
          </a:xfrm>
        </p:grpSpPr>
        <p:sp>
          <p:nvSpPr>
            <p:cNvPr id="123" name=""/>
            <p:cNvSpPr/>
            <p:nvPr/>
          </p:nvSpPr>
          <p:spPr>
            <a:xfrm>
              <a:off x="468360" y="523044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458136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4000" y="1989000"/>
            <a:ext cx="345600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il 1 febbra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mine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a commissione ha approvato gli orientamenti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ottobre 2006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3716280"/>
            <a:ext cx="345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5 mesi dall’adozione degli orientamenti strategici comunit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551664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157720"/>
            <a:ext cx="3456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 più breve tempo possibile e comunque non oltre 5 mesi dall’adozione degli orientamenti strategici comunitari ovvero entro il 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9E0B-A55E-497F-BE22-12419F62CF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2:48:50Z</dcterms:created>
  <dc:creator>utente</dc:creator>
  <dc:description/>
  <dc:language>en-US</dc:language>
  <cp:lastModifiedBy>giampiero bianchini</cp:lastModifiedBy>
  <dcterms:modified xsi:type="dcterms:W3CDTF">2008-06-02T21:44:03Z</dcterms:modified>
  <cp:revision>63</cp:revision>
  <dc:subject/>
  <dc:title>Diapositiva 1</dc:title>
</cp:coreProperties>
</file>