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0F2-62D0-4043-AAF3-40A8A884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E66-9357-47EE-BB8B-15EC955B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CAB-4BDF-4366-9131-E5D353E9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0FE-1D2D-42F4-8FE9-579AC7E3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809C-8020-43E0-891D-9B6D0D75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0139-71D2-446F-ADD1-F19E781D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B386-74FD-4F78-9E26-3F9B50A5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A8C0-618E-44F9-AB4B-2CFF04FE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3D6C-3291-4D71-B47C-310D0D3E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1583-FC5B-4B1E-846D-4B1E3467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5476-5158-42F6-B027-BB052B13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037-2FE4-4376-A44B-FBE932BB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F76F-520E-426F-8B9F-011BD9F9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38D3-5699-46BE-AC48-A3BCC6FD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6743-B002-47AD-8AAD-2946BCEE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019D-B2F6-4BD3-83D8-03C16A86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93D0-A33A-46F6-BEC5-7170EEA9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96E-6841-4A5A-B6B8-38A9ADA2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F1B-EC59-412C-88C1-C3078489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BBD-37BB-4457-8C15-29D5358D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DA4-0F7A-4EB0-B731-6C150E6D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F12-7B35-4B08-88E0-47FCDBC7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84F-CB22-45A4-960E-FE55DD37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2F9-A231-4B16-B9F1-657C4B5B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05EB-3173-40F8-ABE3-D2BFFC667AA7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D2B3-ADED-443D-87FB-636178DC2EFF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nitoraggio e valutazione dei servizi formativ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modello CIPP per la valutazione adottato dall’INVAL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984400" y="56610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ugia, 9 – 11 sett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e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put o riso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ot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ontes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’ il contesto economico e socio-culturale nel quale la scuola si trova ad operare e con il quale si deve confrontare per adeguare la sua offerta formativa alla domanda – espressa o meno – del territorio, anche nella possibil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nput o risors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no le norme, le leggi, le risorse umane, strutturali, tecnologiche e finanziarie di cui la scuola deve tener conto nella prestazione del serviz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cess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nde tutte le attività realizzate dalla scuola in ambito organizzativo, didattico, form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dott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ll’ambito della valutazione è l’output fisico della scuola. Si può distinguere tra indicatori di output in senso stretto (es. numero di licenziati sul numero degli iscritti all’ultimo anno) e indicatori di profitto e di risultato (giudizi in uscita rispetto ai giudizi in entrat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Output ed outco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pesso l’output viene confuso con la misurazione degli apprendimenti, mentre questa viene indicata come outcome del serviz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0:14:00Z</dcterms:created>
  <dc:creator>Alessandro Chiozza</dc:creator>
  <dc:description/>
  <dc:language>en-US</dc:language>
  <cp:lastModifiedBy>Administrator</cp:lastModifiedBy>
  <dcterms:modified xsi:type="dcterms:W3CDTF">2008-09-09T13:58:02Z</dcterms:modified>
  <cp:revision>4</cp:revision>
  <dc:subject/>
  <dc:title>Monitoraggio e valutazione dei servizi formativi</dc:title>
</cp:coreProperties>
</file>